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applause.wav" ContentType="audio/x-wav"/>
  <Override PartName="/ppt/media/image3.jpeg" ContentType="image/jpeg"/>
  <Override PartName="/ppt/media/image4.jpeg" ContentType="image/jpeg"/>
  <Override PartName="/ppt/media/bomb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06C0-51CD-40C5-BACA-4805E7ED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CEB5-37FA-4074-B493-B5404CF1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06F7-35C8-4A1E-B5A9-E662BB29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9A23-CE48-4F09-861D-E4B4062F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9269-4A55-4B96-A761-00FE5E0D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7E31-E7B1-4C92-AED8-0E986262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8F20-156E-4011-AAA2-78F3FAC9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7591-AF69-4BD9-828B-0303AF92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2EC5-A63B-425B-90D2-ABA63CF4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482-9C0B-4276-93D1-9791CC36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819D-EB69-47C3-9DB9-44D3B2B6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48EC-C6C2-49F4-97A7-17BD2854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0218-E596-4189-A179-9A368F766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gbog.com/gallery/russia_pictures/russia_pictures_st_pete_1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Russia pictures - Red Square pho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USSIAS HISTORY UP TO 19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Brianna Sullivan ,Wilson 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4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74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RUSSIAS HISTORY BEG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oup of people called the Slavs started a civilization called the kievan  Rus around present day Kiev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D 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57200" y="1614600"/>
            <a:ext cx="8228520" cy="4494600"/>
            <a:chOff x="457200" y="1614600"/>
            <a:chExt cx="8228520" cy="4494600"/>
          </a:xfrm>
        </p:grpSpPr>
        <p:cxnSp>
          <p:nvCxnSpPr>
            <p:cNvPr id="50" name="_s12301"/>
            <p:cNvCxnSpPr>
              <a:stCxn id="51" idx="0"/>
              <a:endCxn id="52" idx="2"/>
            </p:cNvCxnSpPr>
            <p:nvPr/>
          </p:nvCxnSpPr>
          <p:spPr>
            <a:xfrm flipV="1" rot="16200000">
              <a:off x="5229360" y="2753640"/>
              <a:ext cx="899640" cy="2215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2300"/>
            <p:cNvCxnSpPr>
              <a:stCxn id="54" idx="0"/>
              <a:endCxn id="52" idx="2"/>
            </p:cNvCxnSpPr>
            <p:nvPr/>
          </p:nvCxnSpPr>
          <p:spPr>
            <a:xfrm flipH="1" flipV="1" rot="5400000">
              <a:off x="3013560" y="2753640"/>
              <a:ext cx="899640" cy="2216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2" name="_s12296"/>
            <p:cNvSpPr/>
            <p:nvPr/>
          </p:nvSpPr>
          <p:spPr>
            <a:xfrm>
              <a:off x="2673000" y="161460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ONGOLS INVAD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2297"/>
            <p:cNvSpPr/>
            <p:nvPr/>
          </p:nvSpPr>
          <p:spPr>
            <a:xfrm>
              <a:off x="457200" y="43113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KIEV LOST LOTS OF MONE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2298"/>
            <p:cNvSpPr/>
            <p:nvPr/>
          </p:nvSpPr>
          <p:spPr>
            <a:xfrm>
              <a:off x="4888080" y="43113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LOST LOTS OF POW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53452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C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ly developed into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a empire called cz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zars ruled the empire in 15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pole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12 a French army and the napoleon invaded Rus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d weather forced army to le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12 became Russia a symbol of Russian patriot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bomb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war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war 1 started in 19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rson called Vladimir Lenin let the Russians in th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ia was unprepared for batt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7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7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77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77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77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77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d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DONE BY WILSON L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DONE BY BRIANNA  SULLIV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4:48:12Z</dcterms:created>
  <dc:creator> </dc:creator>
  <dc:description/>
  <dc:language>en-US</dc:language>
  <cp:lastModifiedBy> </cp:lastModifiedBy>
  <dcterms:modified xsi:type="dcterms:W3CDTF">2010-12-20T13:08:35Z</dcterms:modified>
  <cp:revision>37</cp:revision>
  <dc:subject/>
  <dc:title>RUSSIA`S HISTORY FROM 1917</dc:title>
</cp:coreProperties>
</file>